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7C8-408A-4F70-AE22-7F87F13E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E7D-1F7F-4B33-AC57-B34CF7AA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A3DE4-4C23-40E9-AF2E-CFE3DBF9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3CFB1-5CF0-4316-B56B-DFCE4A3C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16C3F-0645-4C6D-99E9-08F84793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BAC4E-F545-4662-96BC-BF6FBE0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2446E-FBC6-4B1F-BFB1-47CA60EB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F785-1032-41A3-97E3-AACE7433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0D0CE-6AA6-46E8-BA26-F8224635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99C9-B713-40AA-AF44-9C4D4763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3CBD2-C4C4-4F40-BE81-4C184FA8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68866D-29CD-41E2-B446-BDE40E79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D44-F3F7-4D57-9202-2073C43E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F801F6-7B4E-4679-A432-7C1E1B9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B795FE-0AC2-4852-BFE8-AD9F99C0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8A4081-3587-47F5-8044-464D2CD1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B81439-1BB7-498A-9785-26C94A3C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1BA96-2665-488C-8B8C-E9ACD3A8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ABDD66-037B-40B8-BE4E-F418CE3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03EEB8-F09B-4AF6-ABCD-0E79F3E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75C22-AAE7-4441-8C87-07850C6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4E6259-3BB9-49E6-ADD8-74274A39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1A196-D4BA-400F-950C-F2051475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C83-C633-41E1-A221-FF92870E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7B7F5-0FA5-4FD5-ABBA-2135C9E3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1EEC7-2DE4-47AE-A266-7D324235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24F38-18F6-4AB9-B147-D32D38F3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EE3BE-0450-428A-BCA3-1442C5A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5AB08-E742-4BF6-8821-1FBFC5AA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9E58A-D260-499F-AE10-514F5F5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8A5E-B743-4614-B8FC-3F841643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0736-8F42-4BA1-8CC7-C59B50FE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16676-67AE-4A27-8367-F737AC1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A3BF-1D86-46E2-AECF-14CB338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4AFE-7259-4070-A86A-127216EE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FA0C7-3C82-418D-8DF5-6CFD56B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84C2B-88DF-41D0-BEF4-A38C18C0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50E47-F2AA-49CF-BD69-572C0F35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BD3B9-8832-453D-93DA-13A143DB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9AD6F-68B4-47FB-A7C9-3A14E555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1884F-0DC4-456E-8E2C-FD92505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71037-15CD-45B1-B6EC-A69669BC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60DF6-5BBC-454C-8423-564FA6B5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B3B18-A895-483D-BB85-2ABB88B2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85327-06B6-42DF-959E-5674538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4790-9F17-457D-A667-75C1EDAD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98D70-C782-43B5-997F-3403351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9105C-5384-47F1-82BC-D114B7F1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40BCC-46BB-4AA2-B518-8C6149DD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3B1FD-FF18-46EF-81F9-67792749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F647B-AF57-464D-BDC1-842E6F8D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951B0-61EF-426C-9925-C1E8A1E2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C781C-A5B7-4C1A-89C2-0DDF715C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1BB6F-B497-4769-9DEC-E7C500F3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C9C65-9D77-4E83-A06A-CD76333F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A58F3-B066-4052-9807-C134A093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1FCB-E5AF-429F-8664-F239FD6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183CF-16EB-4CA2-9DA0-A8BE8E37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4B439-27EC-4617-AD01-17DE9CC9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55B50-92D2-40D3-9499-C2CC756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86151-5E9B-44D2-A1C9-7CDC3F4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83029-A004-41BD-8999-136975FA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1801A-4888-4A93-954A-322BD324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0930D-B39B-40C8-928F-5DED9439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EC680-AB24-43D5-9D98-0D101299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167D5-1068-42FB-935C-5B5F86C6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734AD-7459-4B0F-B9BB-BD77CB74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4B0-A038-4A5A-ACE2-39DACF71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5A9F8-F908-4DCA-A9EB-D231F8C5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70684-7734-4D99-888D-F2F503E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228E0-AA8C-49A9-8D10-B0EE87AA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56F5D-66DB-40EE-8152-ABC41BB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41AF3-2C45-4ED2-9611-AFE89CC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29EF5-1778-4669-A25B-8E3CC8C8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AA183-5355-40F1-9983-C1C0B081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5BC54-4BD5-48EE-A3C1-F7DDDFA0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1E614-C54C-45E4-B00B-2D430067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7122-FC56-4DAE-BAFE-4102FEB8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426A-98BA-4311-87DE-F4E1A1B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DD01-39CA-44E0-9AE8-7CEA23FD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76B-6BD1-4612-A42D-B84CEC09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5429-1F12-476C-97F8-025CFB9F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686C-A2E2-4056-BA28-3E47B11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11EB-FF03-4D5D-92C8-2466AED3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FA2A-0204-4663-9454-5CBC56CD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F724-297A-40D0-ABE3-B1569257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00E6B-CA99-42D7-80C1-FEE9A2E3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30924-D187-4E72-9421-1E26C0E7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348B5-0C5F-46CB-878E-2410FE21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20F2C-E650-4A35-8633-B24B7F7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17ACE-560F-4C30-8E85-FC6E040F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A65-74D4-49E9-BBDE-A14B103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C1055-7FE2-4B56-970C-8C1C4E4D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8D2E7-4AD3-4305-B40B-1CA1477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85E5A-EC7F-4050-B2BB-8D59D6F6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064DC-E5C7-4938-98C1-4D4FFDA2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E98F9-0101-4584-AA32-0F9BA339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65380-94B9-4BBF-A595-83FABC49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75F8A-0CA0-4DB2-B4CB-70EFB405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F63A-52E1-45B4-9EBF-C80E5653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9AE9-B6AB-4BDA-B3D4-127DAD60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44A3-3616-42DE-A190-4E2B0A06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07E-4F40-4461-A4FD-FD427EFD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9A20-46FF-4CA6-97EE-21DC8E7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BA9B-4811-40CC-8871-6A30DD3A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70C0-9A6A-4956-AA95-0C4B1DB9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F28A-38C9-4ED5-9274-73E1885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7A2F-8307-4F9F-A6A8-085227A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E98E-9D75-4B74-AE1D-B30098A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19846-9756-4B84-B5C2-0E741366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E239-495B-4DD0-A71B-29B21D6C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4C7C-C4F3-48D2-8D69-EFD7071A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3AFC-6C9D-4A0D-B811-0A3B2037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095-0F2D-469F-9FBC-914D5F6F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D77D-4836-4713-8C0D-19B85BA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C9063-2888-48D3-BF27-D912E51D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1F1E4-8608-4EE4-8C2D-E2A2F485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71E0-96C8-49C9-AC81-6860570C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B0900-D787-44F3-B91A-C0F8693E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D32C-A84C-419D-9722-675BA16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6CB7-0CBA-426C-9D91-10FBF43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0E9C-FF8F-4AEC-BF3A-E7555DA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8D7F-1D19-449E-917C-2D361B90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080E-A90F-427E-AD35-8F1EA5D3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D1E-5D47-4E21-84CD-52FEEE2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5345-2A60-4397-86BB-DDAA9015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FCCE-DA54-47D5-ABE8-BF86DE14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8E1A0-44AA-4A3E-9CF5-5E8C705C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20CB-6E58-4EE9-8EAB-B2824980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1A56-F0DF-4FE2-9A7B-8C129585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7939-4B79-44A6-930B-670B6CC0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DA94-15EA-4830-AD9F-1A9472A6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584E-200A-4C03-8FD3-51D852E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9D93A-5FF1-404D-8870-CCC5A71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CF52F-F1F4-4B75-98F0-807FAC4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DEF-BA32-4BC0-A81F-0C6E47A7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86A5-26BE-46D5-A97D-54D045B8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84FB-3937-47E3-81E1-66A91721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AC4B-7FD6-461C-9D0C-36546F68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1A31-F5A5-4DC5-967D-A9046BCC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8C80-0B3A-4228-9138-BE8F550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B51A5-C7FF-46DA-9084-7623BF7D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FF39-6A67-4BF5-83A7-3CABC2CC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DCAFC-4AC4-44BD-B290-787C994D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7DDA9-83D0-40A8-B627-3514FC15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BFA75-2BA1-4386-B6E5-18E39BE8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BFB-DD69-4902-8212-D700E67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2D474-5831-4642-B79B-E1BFBE1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2644-E0C0-4723-AF53-2FF69D4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A79BD-0DC5-4054-89F2-7757EDB8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16EF-E689-419D-93E5-874BF732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9DB7E-602D-4DD8-A8D0-41AA28EF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D6AE1-8C63-477F-98EB-9B2DFD61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6E1D8-3786-43AD-8528-1A30CEC4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542C5-D33C-4953-A851-D000B49F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037F-6B1D-4DFD-8E09-AD63DB22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99590-0D1E-4AB2-A47A-4D9BD994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4B5-951F-420F-84F2-48586FEB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39AEC-048F-4775-B904-630BAD55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706F0-5CDF-4B21-8132-ABCD98F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D4CD4-0AB5-41FB-8A13-ECE17EC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7695E-3448-4EAF-8967-60C804F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0B669-AE7E-43C1-A998-262F0F12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2E9A-6ADA-4C46-BDF8-D61F0FB0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B23B4-4F50-49EF-B622-4F861EBF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E3705-73D6-49CB-9890-00D1525D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68675-A8D3-4CB7-883C-53026F5E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7C1A-A2F7-48DA-AC77-E94C70A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94D9-ADBF-4CEA-8206-63C3B5A4D8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C317-D60B-45E4-8F61-82A05598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0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1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0A93-B226-4826-ACBE-736959AD4D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5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D85F-424F-4F38-A57B-4B224F983C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0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C586-DAC5-416B-B867-15811D36E7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3304-DF3C-4F81-B23E-86EDBC0955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6B36-7A87-4381-8C36-8A83D635CA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689-E92A-4EE7-9D6C-9D70058A30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A125-242E-4D3C-9436-F46485EF4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7367-9BE7-4EDF-BA0A-EA5331E842C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63E-6B88-40A5-A927-C740A47015E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C7C-1062-4E99-BCA4-5165642B90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F55E-0293-4673-9807-2812F3F8EC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FEF-74AF-4FFA-81BA-E386F3632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ущее стран ОП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пров Семен 232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ПИ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чему ОПЕК периодически сокращает добычу нефти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ЕК сокращает добычу нефти для того, чтобы не допустить падения цен на «чёрное золото» на мировом рынке. Естественно это благоприятный момент для России, хотя она и не состоит в данной организ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94920" y="-160920"/>
            <a:ext cx="84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588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ы ОПЕК буквально «кормя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р нефтью, но, разумеется с выгодой для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8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зумеется доля нефти стран экспортёров вел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желаю успехов в получении новых знаний!!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кое будущее у стран ОПЕК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то такое ОПЕК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103"/>
                </a:solidFill>
                <a:latin typeface="Arial Black"/>
              </a:rPr>
              <a:t>ОПЕК - ОРГАНИЗАЦИЯ СТРАН-ЭКСПОРТЕРОВ НЕФТ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(Organization of Petroleum Exporting Countries, OPEC) – международная экономическая организация, объединяющая большинство ведущих стран-экспортеров нефти. Регулирует объем добычи и цену нефти на мировом рынке. Члены ОПЕК контролируют 2/3 мировых запасов нефти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ервоначально в состав организации вошл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н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ра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увей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аудовская Аравия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енесуэла (инициатор созд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6027480"/>
            <a:ext cx="7772400" cy="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240" bIns="21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"/>
          <p:cNvSpPr/>
          <p:nvPr/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К этим пяти странам, основавшим организацию, позднее присоединились ещё девять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тар (196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ндонезия (1962—2008, 1 ноября 2008 г. вышла из состава ОПЕК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ивия (1962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ъединённые Арабские Эмираты (196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лжир (1969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игерия (1971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Эквадор (1973—1992, 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бон (1975—199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нгола (2007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"/>
          <p:cNvSpPr/>
          <p:nvPr/>
        </p:nvSpPr>
        <p:spPr>
          <a:xfrm>
            <a:off x="684360" y="-31608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акие страны входят в ОП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8852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П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37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Штаб-квартира ОПЕК первоначально находилась в Женеве, позже перенесена в Вену. Дважды в год (не считая внеочередных событий) проходят конференции ОПЕК, на которых каждую страну представляет министр, отвечающий за добычу неф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270504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4680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долго существует ОПЕК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была создана в 1960 Ираном, Ираком, Кувейтом, Саудовской Аравией и Венесуэлой для координации их отношений с западными нефтеперерабатывающими компаниями. Как международная экономическая организация ОПЕК зарегистрирован в ООН 6 сентября 196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968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чего была создана организация ОПЕК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ОПЕК было вызвано стремлением стран – экспортеров нефти скоординировать усилия по предотвращению снижения мировых цен на неф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36:32Z</dcterms:created>
  <dc:creator>User</dc:creator>
  <dc:description/>
  <dc:language>en-US</dc:language>
  <cp:lastModifiedBy>07114</cp:lastModifiedBy>
  <dcterms:modified xsi:type="dcterms:W3CDTF">2009-11-27T07:42:30Z</dcterms:modified>
  <cp:revision>3</cp:revision>
  <dc:subject/>
  <dc:title>Будущее стран ОПЕК</dc:title>
</cp:coreProperties>
</file>